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7C7-D60B-4822-A846-BA09F144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7A8-6184-40E3-A403-61451C3C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8D16-97A3-4E3F-9ABA-286F9491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A68-1FED-4558-B4BA-DA0C3549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2257-91AF-4110-83A3-3D97F848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28FC-C81B-408E-892A-BCF178ED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02BC-6627-44AC-856A-190BA450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1408-1CF4-485E-9102-F53397D7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5413-04AE-4479-A8C6-E3993010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7DDE-2341-42B3-B65C-C7ACDEA6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4F29-F5C8-49A1-A324-07647C77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0AD-6EFF-4D4F-AE9D-6C06A140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310E-3AF6-43A1-B6E6-1E08A4F8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154B-7A11-4987-B111-EF7E68D1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A01C-4937-4652-9EAE-13772AC7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A74D-BCB3-4FA0-B66B-D0408C2D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60B9-9759-4086-95F3-136895E0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BC9-4445-452B-9B66-44B29975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8DC-722D-4B72-9812-90EB62D9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B00D-8E7B-49B1-B8AB-BEC78C47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6CC-D17A-4A2F-91A7-490DED8E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9304-EE3D-4A22-9722-E11E2BE2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E72-A363-4B6D-B002-026E3348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6DE0-9C46-4843-B423-B46ED58E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DCA2-9046-4271-8A3A-0973776895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EFAC-A4CB-4F0E-996E-786A709DD0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imlich Maneuver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asha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733920" y="5035680"/>
            <a:ext cx="2438280" cy="1822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20533800">
            <a:off x="228240" y="4723920"/>
            <a:ext cx="2286000" cy="1722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rot="1672200">
            <a:off x="6857640" y="5029200"/>
            <a:ext cx="2057400" cy="1549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388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1:ask to stand if sitt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yourself slightly behind the standing victim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5410440" cy="38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Step 2&amp;3:Reassure the victim that you know the Heimlich maneuver and are going to help.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your arms around the victim's wa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5486400" cy="39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Step5:Make each squeeze-thrust strong enough to dislodge a foreign body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fist with one hand and place your thumb toward the victim, just above his or her belly butt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1800" y="3624120"/>
            <a:ext cx="4724280" cy="32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6:Grab your fist with your other hand.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b your fist with your other h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4719600" cy="32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7:prepare to squeez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 five upward squeeze-thrusts into the abd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71800" y="2681280"/>
            <a:ext cx="5105520" cy="33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8:deliver foo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hould help push the item out of the victims tro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5:24:30Z</dcterms:created>
  <dc:creator>769579</dc:creator>
  <dc:description/>
  <dc:language>en-US</dc:language>
  <cp:lastModifiedBy>769579</cp:lastModifiedBy>
  <dcterms:modified xsi:type="dcterms:W3CDTF">2008-10-28T16:11:35Z</dcterms:modified>
  <cp:revision>3</cp:revision>
  <dc:subject/>
  <dc:title>Heimlich Maneuver  </dc:title>
</cp:coreProperties>
</file>